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0FCE-E8B9-44B4-B663-59DCB4E96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6296-DFE1-476E-A538-481920DF9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A6BF-7582-4D87-B7EF-00350C661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ED98-24C5-4A1A-B15A-BBFFD017B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8AA7A-E710-4ACC-ADDE-7E1B69580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A1490-AF57-48CB-A1C1-24BB37597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34272-4D72-4EE0-AB10-2F723B345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7B4EF-F62D-4509-86BC-B6399F5E4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6B867-D426-46C3-B4B0-8B23150AA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D6075-4AFE-4DB1-A035-8A4D77AC8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B9A05-EA3E-4CAE-9D94-6DB624C56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8620-404C-4420-AE56-CEE479DAC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F9EB4-C3C4-4DAB-A614-3B6C241E2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196A9-FAB9-457A-8CEF-18CB95422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6D4A7-4B60-4A29-8916-FB95B9D77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E485E-B290-4C4D-8226-0B9FFACE9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7DF3A-F5DA-470E-B383-EAD986ACE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0B7E50-2420-44B4-B8FC-1A068D06A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938402-5C83-4B55-B121-179768037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252954-B57E-479F-930B-1CAE334B2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887DAA-7BB1-4A15-BBF8-6DE81DBFB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144F42-0B93-410A-9A2B-0FF4BA377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4435-F10A-4934-B596-88D147E32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6F83D5-7D49-4B6C-B5CA-32461505C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261CAB-73E9-4C1D-ABD5-7F704998B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2CA2E6-C0AD-486B-8737-8DCECDD3E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DA11A5-AA7B-48E9-AF85-C353586B6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447CE3-41FE-421D-B868-8CF989FAE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535CF5-F6D8-4859-9483-552063784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15F16D-C89C-488D-AE54-EBAB5E053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2563DB-9427-4BB2-BDA0-51982D691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B39C51-8F3A-4D37-828D-C88C81DA7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1A99D0-06EE-4CBE-AE87-A1D0FE8E6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F81D-9D64-4065-BA7C-276DF0BBC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ABD8DF-1D49-4F0E-8CE6-7BDAE9DCB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9F4A33-32B7-499D-8801-D5CB77CB2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95B5A2-AB8B-40BD-B3B1-E77E9CA5C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6CFD60-2244-45DC-8827-1CB62A88E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963C81-4539-4CB5-BC88-75F52A3EB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B286FD-2521-4ED4-92EF-5E713260D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EC1A5D-EDFA-45FB-8D5A-EAF950DD6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BC10E9-8B54-414A-98DB-18E17A17F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3544E0-5F6F-4266-AC9A-E07604299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B624A8-1454-4CA5-8CC2-1D0E0EE1A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05E6-E87E-4887-A569-F4DC6D407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3315F5-EFDF-4B98-9EF2-92DEFCA75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9CDE26-6EB2-4E4A-A216-7BE4C7FBA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65674B-D301-4BEB-A100-F264ED07C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87DD78-7CC5-4C44-B50E-122F30A05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54087E-7A0C-4F50-BDB1-EA3B4A5C5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3A7CF3-A9C4-4248-8151-BE689A4C7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10FAF0-098B-48E4-A2D4-CFE4F2008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122325-6954-4FEB-9992-54F35DB5F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8C6CD8-5568-41EE-B9EE-C8FC76A9B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7DAA6F-C247-47A2-8C09-5574F073A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D44B-E88C-44FE-92A1-EEC25B37B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3E19EA-9620-4D59-871A-4120B44D8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3A6F-3748-4846-9A88-ABAFCD416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D943-0219-4C9F-9B7B-00BC29267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E53F-F9D9-425A-ABD0-ABAE75DA6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CC85A-FAFC-4AFB-AEAD-1E8CBA7C42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2D9E9-AF8C-467A-A220-ED564A4710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98B65-C4C4-4F9E-B9DB-C83BE395DC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24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PlaceHolder 1"/>
          <p:cNvSpPr>
            <a:spLocks noGrp="1"/>
          </p:cNvSpPr>
          <p:nvPr>
            <p:ph type="dt" idx="10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ftr" idx="11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sldNum" idx="1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A6042-D0B3-4A43-8456-43F5C6A3969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174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dt" idx="13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ftr" idx="14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sldNum" idx="15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DEDBA-84D8-40D5-9671-B330E735AD0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RXULwgg41gc" TargetMode="External"/><Relationship Id="rId2" Type="http://schemas.openxmlformats.org/officeDocument/2006/relationships/hyperlink" Target="http://www.youtube.com/watch?v=RXULwgg41gc" TargetMode="External"/><Relationship Id="rId3" Type="http://schemas.openxmlformats.org/officeDocument/2006/relationships/hyperlink" Target="http://www.youtube.com/watch?v=RXULwgg41gc" TargetMode="External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hT6LnqNe-NI" TargetMode="External"/><Relationship Id="rId2" Type="http://schemas.openxmlformats.org/officeDocument/2006/relationships/hyperlink" Target="http://www.youtube.com/watch?v=hT6LnqNe-NI" TargetMode="External"/><Relationship Id="rId3" Type="http://schemas.openxmlformats.org/officeDocument/2006/relationships/hyperlink" Target="http://www.youtube.com/watch?v=hT6LnqNe-NI" TargetMode="External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youtube.com/results?search_query=detlef%2C+head+of+marketing%2Frandom+house" TargetMode="External"/><Relationship Id="rId2" Type="http://schemas.openxmlformats.org/officeDocument/2006/relationships/hyperlink" Target="http://www.youtube.com/results?search_query=detlef%2C+head+of+marketing%2Frandom+house" TargetMode="External"/><Relationship Id="rId3" Type="http://schemas.openxmlformats.org/officeDocument/2006/relationships/hyperlink" Target="http://www.youtube.com/results?search_query=detlef%2C+head+of+marketing%2Frandom+house" TargetMode="External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l1ObC15XlzQ" TargetMode="External"/><Relationship Id="rId2" Type="http://schemas.openxmlformats.org/officeDocument/2006/relationships/hyperlink" Target="http://www.youtube.com/watch?v=l1ObC15XlzQ" TargetMode="External"/><Relationship Id="rId3" Type="http://schemas.openxmlformats.org/officeDocument/2006/relationships/hyperlink" Target="http://www.youtube.com/watch?v=l1ObC15XlzQ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15000" spc="-1" strike="noStrike">
                <a:solidFill>
                  <a:srgbClr val="dfd293"/>
                </a:solidFill>
                <a:latin typeface="Arial Black"/>
              </a:rPr>
              <a:t>WORK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ccountin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acking income and assets of a business over ti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epare financial stateme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cord business transac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velop and use information systems to track financial performance, tax strategy and health &amp; benefits manage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=RXULwgg41gc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:44 video cl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eers in Human Resources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=hT6LnqNe-NI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:34 video cl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eers in Operations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anagemen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process of managing people and resources in busin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rategic plann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tting objectiv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naging resourc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ploying human and financial assets to achieve objectiv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asuring resul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youtube.com/watch?v=VOXEvfWTq2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deo clip 2:5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eers in Fin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inan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mmercial activity of providing funds and capit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rporate fina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nancial plann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vestment bank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sura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al Esta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youtube.com/results?search_query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=detlef%2C+head+of+marketing%2Frandom+hous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deo clip 1:4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eer in Mark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arketin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mmercial processes involved in promoting, selling, and distributing a product or servi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st companies have a manager in charge of market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areers in Busines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coun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ag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n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784520" y="914400"/>
            <a:ext cx="5607000" cy="42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 Black"/>
              </a:rPr>
              <a:t>What do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>
                <a:solidFill>
                  <a:srgbClr val="ffffff"/>
                </a:solidFill>
                <a:latin typeface="Arial Black"/>
              </a:rPr>
              <a:t>YO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 Black"/>
              </a:rPr>
              <a:t>Think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990720" y="533520"/>
            <a:ext cx="7467480" cy="51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Arial Black"/>
              </a:rPr>
              <a:t>You’ll</a:t>
            </a:r>
            <a:r>
              <a:rPr b="0" lang="en-US" sz="4800" spc="-1" strike="noStrike">
                <a:solidFill>
                  <a:srgbClr val="000000"/>
                </a:solidFill>
                <a:latin typeface="Arial Black"/>
              </a:rPr>
              <a:t> probabl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Black"/>
              </a:rPr>
              <a:t>spend</a:t>
            </a: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at least</a:t>
            </a: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i="1" lang="en-US" sz="6000" spc="-1" strike="noStrike">
                <a:solidFill>
                  <a:srgbClr val="000000"/>
                </a:solidFill>
                <a:latin typeface="Arial Black"/>
              </a:rPr>
              <a:t>1/3</a:t>
            </a: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of your life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at work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maybe </a:t>
            </a:r>
            <a:r>
              <a:rPr b="0" i="1" lang="en-US" sz="6000" spc="-1" strike="noStrike">
                <a:solidFill>
                  <a:srgbClr val="000000"/>
                </a:solidFill>
                <a:latin typeface="Arial Black"/>
              </a:rPr>
              <a:t>1/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85800" y="990720"/>
            <a:ext cx="76201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 Black"/>
              </a:rPr>
              <a:t>That’s a </a:t>
            </a:r>
            <a:r>
              <a:rPr b="0" i="1" lang="en-US" sz="8800" spc="-1" strike="noStrike">
                <a:solidFill>
                  <a:srgbClr val="ffffff"/>
                </a:solidFill>
                <a:latin typeface="Arial Black"/>
              </a:rPr>
              <a:t>major</a:t>
            </a:r>
            <a:r>
              <a:rPr b="0" lang="en-US" sz="88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 Black"/>
              </a:rPr>
              <a:t>investment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914400" y="1523880"/>
            <a:ext cx="70135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 Black"/>
              </a:rPr>
              <a:t>a </a:t>
            </a:r>
            <a:r>
              <a:rPr b="0" i="1" lang="en-US" sz="8800" spc="-1" strike="noStrike">
                <a:solidFill>
                  <a:srgbClr val="000000"/>
                </a:solidFill>
                <a:latin typeface="Arial Black"/>
              </a:rPr>
              <a:t>hug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 Black"/>
              </a:rPr>
              <a:t>investment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334520" y="1628640"/>
            <a:ext cx="5749560" cy="40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So what ar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>
                <a:solidFill>
                  <a:srgbClr val="ffffff"/>
                </a:solidFill>
                <a:latin typeface="Arial Black"/>
              </a:rPr>
              <a:t>YOU</a:t>
            </a: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going to do for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a career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1854360" y="1143000"/>
            <a:ext cx="52146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 Black"/>
              </a:rPr>
              <a:t>Thinking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 Black"/>
              </a:rPr>
              <a:t>about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800" spc="-1" strike="noStrike">
                <a:solidFill>
                  <a:srgbClr val="000000"/>
                </a:solidFill>
                <a:latin typeface="Arial Black"/>
              </a:rPr>
              <a:t>Business </a:t>
            </a:r>
            <a:r>
              <a:rPr b="0" lang="en-US" sz="8800" spc="-1" strike="noStrike">
                <a:solidFill>
                  <a:srgbClr val="000000"/>
                </a:solidFill>
                <a:latin typeface="Arial Black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035080" y="1346040"/>
            <a:ext cx="50756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 Black"/>
              </a:rPr>
              <a:t>Let’s tak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 Black"/>
              </a:rPr>
              <a:t>a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 Black"/>
              </a:rPr>
              <a:t>look …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areers in Busines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Accounting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Managemen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Financ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Marketing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=l1ObC15XlzQ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:31 video cl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eer in accoun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5T16:20:08Z</dcterms:created>
  <dc:creator>HP Authorized Customer</dc:creator>
  <dc:description/>
  <dc:language>en-US</dc:language>
  <cp:lastModifiedBy>HP Authorized Customer</cp:lastModifiedBy>
  <dcterms:modified xsi:type="dcterms:W3CDTF">2010-04-26T02:54:00Z</dcterms:modified>
  <cp:revision>13</cp:revision>
  <dc:subject/>
  <dc:title>       WORK</dc:title>
</cp:coreProperties>
</file>